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60DF-B376-4F2B-85FB-8E8FB2D05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06AD-A127-46E8-B271-B139D09C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C4B9-ED7E-47A3-9618-C8B0A7D7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9A00-0711-43B9-9AEB-6138D373B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3097-D515-4FF1-B4D0-9118BF5B4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6283-EA3D-48F5-9285-677F5F384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447E-63B8-46F6-89BA-9DD8D177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15CF-3EC1-4D69-A4E7-A71DBF299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4072-BA09-43CC-A3BE-6C42771AB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4368-C3C5-4BC6-BF01-A10CD94F8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18C9-3EDE-471A-8BB5-1541A7C8F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38BD-70BD-4D71-A443-8DEF38424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54B7-BA77-4FD9-907D-C9A558F4C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4C60-A97E-4458-BF7F-BA98E7037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6F90-3278-452B-85CB-AA0BB71B0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A5B7-5AD9-4831-9ED1-8437B54F0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A26B-E88A-408B-9072-E3D58EEF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CBBB-1D8F-4342-97CA-AA7CA026A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1A97-B2F4-43C7-A855-E0162B745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02BA-E26A-43F6-953D-0F3E914E4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D6F5-94B2-4EF9-9981-00CE1BCD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E08-C466-4199-9CA8-CE81AF33F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67F4-A239-4559-96FC-B374EF580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28B9-5F03-43F1-95D4-ECD460A87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3EBF-7E14-47A9-A7AB-BC6F4FE2E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C350-CAB2-48AF-8025-C8CD043F7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249C-E181-496C-991B-CC66B8E0D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9F7F-D925-4F7C-A084-0DD58FA5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0041-DAC1-44C7-A8C2-1D0AEA80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C7CF-6A5F-4A22-9462-47246A9EC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40CC-AC27-44F1-B075-44D70890E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FC07-C22D-498F-A2CE-05F84C06E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C1D-4513-49AF-B50C-803BC4A2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5FF-5672-4673-960B-CB55726C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BA0-04CF-4C4D-9D3E-33B52A38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867-183C-4CE5-9BA1-D51DC87D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11D9-5FF9-44C3-87B6-7D0EAD03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437C-C68C-4443-A7E3-50F50A43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4EDA-2E41-43F4-9E50-9D9B9F78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D98B-8A76-4C7B-975B-C8FBC39A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EE6F-C01A-404B-ACC3-ABCC6671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1EDD-D389-46BE-B049-B8E7F0C4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170C-A8C1-4AE0-9C5B-E1370AA4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568-21FE-426E-811D-8E20E49A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EBA9-9E62-4C16-A8C1-E1A6BC8F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D60F-7E5E-4013-A93C-987BF737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E0C4-B733-40C6-B6A4-F6D3A4AE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8AC5-71D4-4E8D-B0BB-7FABF02E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BECE-4821-4971-9CFF-298907D6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424-36AD-476D-A771-C9A557E4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F5E-F981-49A4-B27D-E9C1FDAB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0D3-FA5B-4809-A5BE-1E41666D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962-D717-4FEA-8120-F801C9B2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9FD-84BE-41B0-9E66-EB5B259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69C-BBDC-4FF5-93B6-978F90F6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B4D-485E-4285-BCBF-445B3333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7E08-CEDD-4633-95C2-7B4FFB53C4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045F-5FC0-4A6B-9FB9-284B1A1C5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bout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NUMBER:  The number used to identify your unique account within the b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69" name="Oval 5"/>
          <p:cNvSpPr/>
          <p:nvPr/>
        </p:nvSpPr>
        <p:spPr>
          <a:xfrm>
            <a:off x="2133720" y="5715000"/>
            <a:ext cx="144756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828800" y="5486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School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NUMBER:  The number used to identify a specific check within the sequence of the register.  It usually includes 3 or 4 digi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80" name="Oval 5"/>
          <p:cNvSpPr/>
          <p:nvPr/>
        </p:nvSpPr>
        <p:spPr>
          <a:xfrm>
            <a:off x="3429000" y="571500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6553080" y="3124080"/>
            <a:ext cx="6858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828800" y="5486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School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NUMBER:  Used to list checks for depos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92" name="Oval 5"/>
          <p:cNvSpPr/>
          <p:nvPr/>
        </p:nvSpPr>
        <p:spPr>
          <a:xfrm>
            <a:off x="6553080" y="3352680"/>
            <a:ext cx="83844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1828800" y="5486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School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Write Checks:  You should fill out the following 6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:  Include the month, day and year you are writing the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5"/>
          <p:cNvSpPr/>
          <p:nvPr/>
        </p:nvSpPr>
        <p:spPr>
          <a:xfrm rot="20245200">
            <a:off x="7848360" y="327636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9/15       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EE:  Write the name of the person or business on the lin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Pay to the order of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 rot="20245200">
            <a:off x="4723920" y="373356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15       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20968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hletic Sho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IN NUMBERS:  Write the amount of the check in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/>
          <p:cNvSpPr/>
          <p:nvPr/>
        </p:nvSpPr>
        <p:spPr>
          <a:xfrm rot="20245200">
            <a:off x="7848360" y="373356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15       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20968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hletic Sho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68580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5.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IN WORDS:  Write the amount in words.  Start at the left, write any cents as a fraction, and draw a line in the extra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 rot="20245200">
            <a:off x="1219320" y="403812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15       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20968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hletic Sho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68580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.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066680" y="43434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fty-Five and 63/100 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  Sign all checks the way you sign the signature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5"/>
          <p:cNvSpPr/>
          <p:nvPr/>
        </p:nvSpPr>
        <p:spPr>
          <a:xfrm rot="20245200">
            <a:off x="7467480" y="502884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15       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20968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hletic Sho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580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.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1066680" y="43434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y-Five and 63/100 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5181480" y="54100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Brush Script MT"/>
              </a:rPr>
              <a:t>George Washington D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:  Use the memo area to note the reason for the che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5"/>
          <p:cNvSpPr/>
          <p:nvPr/>
        </p:nvSpPr>
        <p:spPr>
          <a:xfrm rot="20245200">
            <a:off x="3276360" y="510516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        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220968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n’s Clothing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68580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066680" y="43434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y-Three and 28/100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1814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 MT"/>
              </a:rPr>
              <a:t>Megan 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67652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include the following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egister:  Don’t forget to balance your checkbook by filling out the check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4" descr="Check Register"/>
          <p:cNvPicPr/>
          <p:nvPr/>
        </p:nvPicPr>
        <p:blipFill>
          <a:blip r:embed="rId1"/>
          <a:stretch/>
        </p:blipFill>
        <p:spPr>
          <a:xfrm>
            <a:off x="838080" y="2895480"/>
            <a:ext cx="6299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(or Debit) is money taken out of your account.  It is subtracted from the Ba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heck Register"/>
          <p:cNvPicPr/>
          <p:nvPr/>
        </p:nvPicPr>
        <p:blipFill>
          <a:blip r:embed="rId1"/>
          <a:stretch/>
        </p:blipFill>
        <p:spPr>
          <a:xfrm>
            <a:off x="838080" y="2895480"/>
            <a:ext cx="6299280" cy="29718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9"/>
          <p:cNvSpPr/>
          <p:nvPr/>
        </p:nvSpPr>
        <p:spPr>
          <a:xfrm rot="20245200">
            <a:off x="7162920" y="358092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"/>
          <p:cNvSpPr/>
          <p:nvPr/>
        </p:nvSpPr>
        <p:spPr>
          <a:xfrm rot="5400000">
            <a:off x="4343040" y="472428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315200" y="4648320"/>
            <a:ext cx="1066680" cy="147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50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5.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$444.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 (or Credit) is money put into your account.  It is added to the Ba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Check Register"/>
          <p:cNvPicPr/>
          <p:nvPr/>
        </p:nvPicPr>
        <p:blipFill>
          <a:blip r:embed="rId1"/>
          <a:stretch/>
        </p:blipFill>
        <p:spPr>
          <a:xfrm>
            <a:off x="838080" y="2895480"/>
            <a:ext cx="6299280" cy="29718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5"/>
          <p:cNvSpPr/>
          <p:nvPr/>
        </p:nvSpPr>
        <p:spPr>
          <a:xfrm rot="20245200">
            <a:off x="7238880" y="403812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 rot="5400000">
            <a:off x="5181480" y="53341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7315200" y="4648320"/>
            <a:ext cx="1066680" cy="147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444.3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8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$729.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Rules About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2 Rules About Check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rite checks when you have enough money in your accou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hecks legib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check amount as far to the left as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us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rite chec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2 Rules About Check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erase mistakes on a che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sign blank chec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estrictive endors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the right date on a che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2 Rules About Check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keep checks in a safe pl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oy voided or unused checks and deposit sli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very transaction in the checkbook regi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a running balance in the checkbook regi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ash a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to Cash a Check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ENDORSEMENT: Sign your name the same way it is written on the front of the che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Check Back"/>
          <p:cNvPicPr/>
          <p:nvPr/>
        </p:nvPicPr>
        <p:blipFill>
          <a:blip r:embed="rId1"/>
          <a:stretch/>
        </p:blipFill>
        <p:spPr>
          <a:xfrm>
            <a:off x="3505320" y="3809880"/>
            <a:ext cx="2087280" cy="21337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8"/>
          <p:cNvSpPr/>
          <p:nvPr/>
        </p:nvSpPr>
        <p:spPr>
          <a:xfrm rot="20245200">
            <a:off x="5638680" y="358092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505320" y="39625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George W.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to Cash a Check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NDORSEMENT: Do this when you want to give someone else the money.  Wri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pay to the order of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at person’s na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sign i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ow that person is the only one that can cash the che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Check Back"/>
          <p:cNvPicPr/>
          <p:nvPr/>
        </p:nvPicPr>
        <p:blipFill>
          <a:blip r:embed="rId1"/>
          <a:stretch/>
        </p:blipFill>
        <p:spPr>
          <a:xfrm>
            <a:off x="3505320" y="3809880"/>
            <a:ext cx="2087280" cy="213372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5"/>
          <p:cNvSpPr/>
          <p:nvPr/>
        </p:nvSpPr>
        <p:spPr>
          <a:xfrm rot="20245200">
            <a:off x="5638680" y="358092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581280" y="42670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William J.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3581280" y="3962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Pay to the or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581280" y="46483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George W.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:  Include the month, day and year you are writing the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 rot="20245200">
            <a:off x="7620120" y="32000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to Cash a Check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VE: When you want your check to be very safe, like when you send it by mail to your bank, use this type of endorse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“For Deposit Only”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n , it can only be deposited into your accou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Check Back"/>
          <p:cNvPicPr/>
          <p:nvPr/>
        </p:nvPicPr>
        <p:blipFill>
          <a:blip r:embed="rId1"/>
          <a:stretch/>
        </p:blipFill>
        <p:spPr>
          <a:xfrm>
            <a:off x="3505320" y="3809880"/>
            <a:ext cx="2087280" cy="21337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5"/>
          <p:cNvSpPr/>
          <p:nvPr/>
        </p:nvSpPr>
        <p:spPr>
          <a:xfrm rot="20245200">
            <a:off x="5638680" y="358092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581280" y="42670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George W.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581280" y="3962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For Deposit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EE:  Write the name of the person or business on the lin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Pay to the order of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 rot="20245200">
            <a:off x="3047760" y="350496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IN NUMBERS:  Write the amount of the check in numb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 rot="19089000">
            <a:off x="7440120" y="3725640"/>
            <a:ext cx="1008360" cy="304560"/>
          </a:xfrm>
          <a:prstGeom prst="leftArrow">
            <a:avLst>
              <a:gd name="adj1" fmla="val 50000"/>
              <a:gd name="adj2" fmla="val 876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0866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7010280" y="3962520"/>
            <a:ext cx="762120" cy="685800"/>
          </a:xfrm>
          <a:custGeom>
            <a:avLst/>
            <a:gdLst>
              <a:gd name="textAreaLeft" fmla="*/ 111600 w 762120"/>
              <a:gd name="textAreaRight" fmla="*/ 650520 w 76212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IN WORDS:  Write the amount of the check in wo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 rot="20245200">
            <a:off x="1981080" y="403812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  Sign all checks the way you sign the signature car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 rot="20245200">
            <a:off x="6172200" y="52574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:  Use the memo area to note the reason for the che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5"/>
          <p:cNvSpPr/>
          <p:nvPr/>
        </p:nvSpPr>
        <p:spPr>
          <a:xfrm rot="20245200">
            <a:off x="3048120" y="50288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1828800" y="5486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School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NUMBERS:  The nine-digit string of numbers used to identify your bank to process the transa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59" name="Oval 7"/>
          <p:cNvSpPr/>
          <p:nvPr/>
        </p:nvSpPr>
        <p:spPr>
          <a:xfrm>
            <a:off x="914400" y="5715000"/>
            <a:ext cx="14479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15/48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1828800" y="5486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School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4:20:31Z</dcterms:created>
  <dc:creator>Fabrikam</dc:creator>
  <dc:description/>
  <dc:language>en-US</dc:language>
  <cp:lastModifiedBy>megan.rees</cp:lastModifiedBy>
  <dcterms:modified xsi:type="dcterms:W3CDTF">2009-11-04T16:25:06Z</dcterms:modified>
  <cp:revision>26</cp:revision>
  <dc:subject/>
  <dc:title>Check Writing</dc:title>
</cp:coreProperties>
</file>